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DE9-3C23-4B0C-971B-953591D5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E37-BB7E-4167-A636-521BED6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DE6-38E4-47D6-9C91-60C7DB2A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38D-2037-4256-933D-9F93883B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25CF-0702-4465-8AF1-3F0857F5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C60B-B0E3-4E2A-9192-368D30D2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0472-F05D-44D1-BC79-C23B8AA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77FB-41A7-4C57-8B3B-6ABA1EC9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D80-DC33-4600-A27F-07E874C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6654-D87B-4E8F-9008-377AB60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986-C783-4995-A82E-258613C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C86-1DFD-4AAA-8833-64817BB9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A68C-1569-4E28-B5ED-EBCA80C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F74E-4709-4D2D-B8AF-1B90ADF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CF54-72AE-452D-A111-56EC0860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2C65-A998-4B88-BEAF-42BDF07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6BF1-2236-46C8-9125-76B9058E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71F-8C0F-418C-A1E5-209F87B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933-9A48-459F-BBEC-1100758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562-8028-42F9-8736-5334D19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56B-720A-432E-984C-40C49B18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7FF-29DF-443E-975D-244BEAF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839-1B3F-4B7F-BF9A-EB097FB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50A-3482-4B58-941A-C0EAD3A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A17-61BF-48F3-9148-12B50CFDBCC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9102-0716-463D-A35F-C73FEF9ADEF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16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ZE WZGLĘDU NA POŁOŻ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PRZY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18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ysujmy na prostej n ką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ełn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Jak już zapewne wiesz, jego miara wynosi 18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0320" y="1719360"/>
            <a:ext cx="69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tej samej prostej oznacz dowolny punk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narysuj od nieg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133720"/>
            <a:ext cx="68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Łatwo można zauważyć, iż półprosta podzieliła kąt półpełny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a ką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a rysunku oznaczone literami greckiego alfabetu -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mówimy, że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lub na odwrót –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Między tymi kątami zawsze zachodzi związ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32000" y="4525920"/>
          <a:ext cx="360072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25920"/>
                    <a:ext cx="360072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40200" y="448776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448776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716360" y="454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59280" y="2825640"/>
          <a:ext cx="11178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825640"/>
                    <a:ext cx="11178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05480" y="4255920"/>
          <a:ext cx="61416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5480" y="425592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03640" y="4329000"/>
          <a:ext cx="12384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32900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88000" y="4292640"/>
          <a:ext cx="112680" cy="23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429264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43640" y="4311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WIERZCHOŁK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steś już zaznajomiony z kątami przyległymi, aby zapoznać się z kolejnym rodzajem kątów wykorzystajmy poprzedni rysunek, obrazujący kąty przyległ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8768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edłuż półprostą o początku w punkcie A i oznacz powstałą w ten sposób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05000"/>
            <a:ext cx="70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n sposób dwie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zecinające się w punkcie A, stworzyły 4 kąty. Jak można dostrzec, kąty leżące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zeciw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erzchołkach maj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i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ierzchołkow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Aby lepiej je sobie zobrazować zauważ, iż kąty wierzchołkowe t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ie pary kątów przy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z tą różnicą, że zamiast półprostej (ograniczonej punktem A) mamy prostą 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59280" y="3984480"/>
          <a:ext cx="3600360" cy="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984480"/>
                    <a:ext cx="3600360" cy="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767120" y="394668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394668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88000" y="429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2400" y="3716280"/>
          <a:ext cx="61416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2400" y="371628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932360" y="3789360"/>
          <a:ext cx="123840" cy="23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80000" y="3789360"/>
          <a:ext cx="11268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378936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370560" y="37720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62308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824360" y="3143160"/>
          <a:ext cx="560520" cy="86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24360" y="3143160"/>
                    <a:ext cx="560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99120" y="3968640"/>
          <a:ext cx="560160" cy="86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9120" y="3968640"/>
                    <a:ext cx="5601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35640" y="4005360"/>
          <a:ext cx="61416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35640" y="400536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0560" y="3997440"/>
          <a:ext cx="75708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0560" y="3997440"/>
                    <a:ext cx="757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319640" y="3473280"/>
          <a:ext cx="79200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9640" y="3473280"/>
                    <a:ext cx="792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63960" y="4057560"/>
          <a:ext cx="10332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63960" y="4057560"/>
                    <a:ext cx="10332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26000" y="3968640"/>
          <a:ext cx="90360" cy="2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6000" y="396864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111640" y="303372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96000" y="4041720"/>
            <a:ext cx="7920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ODPOWIADAJĄ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160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znając następne rodzaje kątów, skorzystamy z rysunku kątów przyległ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50336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prost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oległ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prostej n (oznaczmy ją literą „m”), a półprostą przekształć w prostą 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02392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kt przecięcia prostej m i prostej k oznaczmy literą „B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dpowiadając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odpowiadając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34936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 łatwo możemy zauważyć z rysunku, kąty powstałe w wyniku przecięcia się prostych n i k w punkcie A mają taką samą miarę, co kąty powstałe w wyniku przecięcia się prostej m z prostą k w punkcie 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105440" y="4699080"/>
            <a:ext cx="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29080" y="3589200"/>
          <a:ext cx="61452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9080" y="358920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13080" y="3336840"/>
          <a:ext cx="889200" cy="13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3080" y="3336840"/>
                    <a:ext cx="8892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25800" y="4416480"/>
          <a:ext cx="61452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5800" y="441648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45080" y="38768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NAPRZEMIANLEGŁ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052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y tym rodzaju kątów skorzystamy z rysunku kątów odpowiadając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376280"/>
            <a:ext cx="69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kąty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wierzchołk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tych, które już są oznaczone na rysu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70028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uważ, że kąty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óre zostały dorysowane są zarówno wierzchołkowe, jak i odpowiadające, więc kąt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n ma taką samą miarę jak kąt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przemian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naprzemianległ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0000" y="472428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211640" y="3336840"/>
          <a:ext cx="888840" cy="13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336840"/>
                    <a:ext cx="888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11640" y="392580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10160" y="4689360"/>
          <a:ext cx="3934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0160" y="4689360"/>
                    <a:ext cx="393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859280" y="3456000"/>
          <a:ext cx="39384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59280" y="3456000"/>
                    <a:ext cx="393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81600" y="4689360"/>
          <a:ext cx="69840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81600" y="468936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284720" y="3460680"/>
          <a:ext cx="6984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4720" y="346068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295880" y="3897360"/>
          <a:ext cx="2761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95880" y="389736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392720" y="4344840"/>
          <a:ext cx="27612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92720" y="434484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535640" y="3897360"/>
          <a:ext cx="588960" cy="39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35640" y="389736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851280" y="4324320"/>
          <a:ext cx="588960" cy="39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851280" y="432432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52920" y="3841920"/>
          <a:ext cx="90360" cy="234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52920" y="3841920"/>
                    <a:ext cx="903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32360" y="4670280"/>
          <a:ext cx="90360" cy="23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32360" y="467028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88000" y="3933720"/>
          <a:ext cx="102960" cy="235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88000" y="3933720"/>
                    <a:ext cx="1029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253040" y="4741920"/>
          <a:ext cx="102960" cy="234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253040" y="4741920"/>
                    <a:ext cx="1029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 flipH="1" flipV="1">
            <a:off x="4319280" y="4761000"/>
            <a:ext cx="431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88000" y="3933720"/>
            <a:ext cx="39672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457360"/>
            <a:ext cx="688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obnie wygląda sytuacja z kątem rozwartym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akże leżącym na prostej n – miara jego kąta będzie taka sama, jak kąta wierzchołkowego do jego kąta odpowiadającego, czyli w naszym przypadku – kąta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Na rysunku widać wszystkie pary takich ką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2:07:11Z</dcterms:modified>
  <cp:revision>25</cp:revision>
  <dc:subject/>
  <dc:title>Slajd 1</dc:title>
</cp:coreProperties>
</file>